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361-4EEF-4F5C-8CDC-D0363806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A368-68C5-451C-9D8E-483C0A67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572-C289-444B-8082-FD510428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404-5B4A-49B8-8D72-C3E6E6F3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6BD0-38FF-4771-8164-EF9EF072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B384-5DAF-4E3F-AD6C-90E21CAF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0F57-9216-40B9-B37B-C51DE827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E040-2DE4-457A-ABB2-0F08FA20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3D16-78A1-4706-AD67-F64674C8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EF00-B980-4726-80E6-0D324CCE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8CF4-9076-49AF-AAF0-C2923707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194-7001-45FD-81F3-990D784A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8306-7DA5-4F25-BB0A-AA44D6D4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3356-EB2C-4B99-82E5-3F511E22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D42C-526B-4751-B1A6-09052C87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9A7E-A5D5-48A0-A33A-6786E3E7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F767-98FB-4853-B908-5EBEE36D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3BDE6-1AB1-4A05-BE28-66B9ACF7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3C2F6-4A17-4F42-BEA8-7FE5A434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447F9-8117-4CF9-B1A9-00CDDF52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1E053-5E6F-4BEB-B8F2-0B31C10C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31D0-4AE9-40F4-B617-90DDA248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82D-2664-46FA-BF50-918BC776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91AD8-CAF5-44B8-AA16-9BB56CE5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49A7-1993-4AFE-ABF7-AB6605D8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B63B-F878-4739-A4BA-D2A44018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8BFFA-E6DC-4B98-9A26-88FF690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5BC3D-D411-4FEC-ACFD-03DABBE3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B275B-0977-4711-8EB9-19918AD9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39B6-0AEE-4AFE-A0C5-E2562DC1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63810-A280-48B0-93FC-40518C45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5DC27-1FDC-4A8C-ABEE-9AD95CD1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7B0C5-473A-4B48-AE0D-F337106F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7C0-0D22-4C47-8BEC-F0F2F1CF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48174-4A50-404A-9ADF-B235911C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B1DF7-4871-4498-A026-EAC62E06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90292-4C22-4642-9DF0-D3A22715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A35A-2EDC-4BFC-B25B-C9375045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F61D9-A566-4EA1-AB3C-2F9D1F98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D565A-CD88-46CF-94D8-BF12F9D4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FBD19-1259-4058-8EE4-D602B025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FE001-3594-42FD-8FFF-2F813C46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9FC8D-099D-484E-8401-7C4C1B57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9F5E7-2811-4CEB-BAC1-0FF0E556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CB1F-0D95-402A-9A77-69C95365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6959D-509C-4DFB-82A3-A0D2CE97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A9CA2-3E86-482B-951B-FFB692D7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230C8-BDDC-472E-BACC-10C9DAF8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CB8D1-F4C8-4B86-AFEC-1CFFCF6F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F4FE3-DEDF-4D0B-AACA-B348219A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FAA7E-32B3-4C82-82D0-7D5F9010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B13B8-50CC-48AB-A34B-38FC2616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37723-614D-4D35-813A-B5AA6501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EB882-E5CC-420A-A9C2-CF04E955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C506C-9FB6-4D8A-815F-7D3E541D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ECD-095C-4635-A061-772ED85C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CDF2F-AE9B-41E9-B227-217F5294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83E0-CE6F-4961-9299-D0366642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8D5-75A2-43D1-99C7-10C12976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095-53B1-4A4F-8043-FAC83943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D7B8-6F33-4CD0-B7E5-3F024252D15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A840-836E-41D2-B9E4-EB948BEB598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FFD2-6D98-4AEF-9D4E-A093A686EC9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A370-7058-498B-8999-7272C61F8B9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D8E2-7E7E-440C-8AFE-133C315189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An Overview of Alcatraz Is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&amp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The Major World/US Events of 1935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Alcatraz Island and The World, 1935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ere is Alcatraz Island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1" name="Content Placeholder 9" descr="san_francisco_map.gif"/>
          <p:cNvPicPr/>
          <p:nvPr/>
        </p:nvPicPr>
        <p:blipFill>
          <a:blip r:embed="rId1"/>
          <a:stretch/>
        </p:blipFill>
        <p:spPr>
          <a:xfrm>
            <a:off x="533520" y="1371600"/>
            <a:ext cx="4724280" cy="5237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Alcatraz.jpg"/>
          <p:cNvPicPr/>
          <p:nvPr/>
        </p:nvPicPr>
        <p:blipFill>
          <a:blip r:embed="rId2"/>
          <a:stretch/>
        </p:blipFill>
        <p:spPr>
          <a:xfrm>
            <a:off x="5791320" y="42670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san_francisco_map alcatraz.gif"/>
          <p:cNvPicPr/>
          <p:nvPr/>
        </p:nvPicPr>
        <p:blipFill>
          <a:blip r:embed="rId3"/>
          <a:stretch/>
        </p:blipFill>
        <p:spPr>
          <a:xfrm>
            <a:off x="5943600" y="1447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istory of Alcatraz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775: Island discovered by Spanish explorer Juan Manuel de Aya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847: US Army decides the island would make an ideal military for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853: US Army begins to build military fortress on is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861: Island is used to hold Civil War prison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898: prisoners of Spanish-American War are held on the island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906: After the San Francisco Earthquake, hundreds of civilian prisoners are transferred to Alcatra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912: Large cell house is constructed on Alcatra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istory of Alcatraz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920s: Three-story cell house is nearly full to capac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934: Prison is remodeled and turned into a US Federal Penitenti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934: James A. Johnston is selected to serve as Alcatraz’s first Ward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gust of 1934: the most notorious prisoners from McNeil Island, the Federal Penitentiary of Atlanta, and Leavenworth were being sent to Alcatraz (including Al Capone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lcatraz Fac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famous Inmates: Al Capone, George “Machine Gun” Kelly, Henri Young, Robert “Birdman of Alcatraz” Stroud, Doc Barker, Floyd Hamilton, and Alvin “Creepy” Karp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re were 14 known escape attempts from Alcatra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 are no known “successful” escapes from Alcatraz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United States of 1935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US is in the midst of the Great Depression, which began around 1929 (The Great Stock Market Crash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uring the Great Depression, many businesses closed and a large amount of Americans were unemploy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ident Franklin Roosevelt opens the second phase of The New Deal in U.S., calling for social security, better housing, equitable taxation, and farm assistance.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660960" indent="-2541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New Deal was a reform program that went through two phases—in 1935 the second phase, which focused on helping the worker, bega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World of 1935—Germany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uring this time, Germany was becoming a growing threat to the world. The Nazi Party, led by Adolf Hitler, was now in power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1935, the Nazis reject the Versailles Treaty, the agreement that ended WWI, and introduce mandatory military servic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azis enact Nuremberg Laws against Jews to prevent "racial pollution.“ Jews lose citizenship and civil right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Rest of the World, 1935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ssolini, the Fascist Dictator of Italy, invades Ethiop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rsia becomes Iran under Reza Shah Pahlevi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0:10:59Z</dcterms:created>
  <dc:creator>Administrator</dc:creator>
  <dc:description/>
  <dc:language>en-US</dc:language>
  <cp:lastModifiedBy>Stephanie</cp:lastModifiedBy>
  <dcterms:modified xsi:type="dcterms:W3CDTF">2008-06-13T01:40:58Z</dcterms:modified>
  <cp:revision>8</cp:revision>
  <dc:subject/>
  <dc:title>Alcatraz Island and The World, 1935</dc:title>
</cp:coreProperties>
</file>